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82D80-BBA5-48F7-8545-66D7AAC47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D114A-CD88-4640-9384-6A7F4144F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C4256-19E9-43D1-AF54-E52C19574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3D3D4-E945-48D0-80B7-8606B4127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09F7C-E23A-4D77-ACFC-721411884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6D2B9-6548-4A57-B2B8-E1EFC7219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DC3BE-8868-480A-BA46-E78C86A53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F5532-2FE6-4736-BE34-0D9581408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73D43-29C7-4C6D-8F25-1A6FF7AC5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BF1E4-D781-4610-81E3-B9E464F38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4A398-3B37-42F3-AF12-9FD178B93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F918F-4712-4C61-BADE-2D6A6B867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BC32B-E3E2-4199-82D3-F554EC768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DDE5D-80A7-4A95-8D5E-E5E9200D8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AE764-5F08-4F56-8E8F-F483EFA83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ED0B6-9802-481D-A74E-3DC010747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CF5FA-E2D3-40F8-8AD5-7049F3F35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375B9-FADE-4CDE-A7D7-B6710B505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BE083-B340-4FC2-B09A-F7932AC2A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98C4E-2460-485F-9496-52E24D22B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ACA32-1281-407F-9931-AEBB11C36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AFE81-37AF-45CD-BC87-84CB183F5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3E736-508A-4557-A952-0944B5C03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D0246-41C4-4174-94B2-87402A2B4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2240" y="-25560"/>
            <a:ext cx="10686240" cy="7440120"/>
            <a:chOff x="-1542240" y="-25560"/>
            <a:chExt cx="10686240" cy="7440120"/>
          </a:xfrm>
        </p:grpSpPr>
        <p:grpSp>
          <p:nvGrpSpPr>
            <p:cNvPr id="1" name=""/>
            <p:cNvGrpSpPr/>
            <p:nvPr/>
          </p:nvGrpSpPr>
          <p:grpSpPr>
            <a:xfrm>
              <a:off x="0" y="-14400"/>
              <a:ext cx="9144000" cy="6886800"/>
              <a:chOff x="0" y="-14400"/>
              <a:chExt cx="9144000" cy="6886800"/>
            </a:xfrm>
          </p:grpSpPr>
          <p:sp>
            <p:nvSpPr>
              <p:cNvPr id="2" name=""/>
              <p:cNvSpPr/>
              <p:nvPr/>
            </p:nvSpPr>
            <p:spPr>
              <a:xfrm>
                <a:off x="2590920" y="-7920"/>
                <a:ext cx="2757240" cy="6878520"/>
              </a:xfrm>
              <a:custGeom>
                <a:avLst/>
                <a:gdLst/>
                <a:ahLst/>
                <a:rect l="l" t="t" r="r" b="b"/>
                <a:pathLst>
                  <a:path w="1737" h="4320">
                    <a:moveTo>
                      <a:pt x="494" y="4309"/>
                    </a:moveTo>
                    <a:lnTo>
                      <a:pt x="1737" y="4320"/>
                    </a:lnTo>
                    <a:lnTo>
                      <a:pt x="524" y="0"/>
                    </a:lnTo>
                    <a:lnTo>
                      <a:pt x="0" y="7"/>
                    </a:lnTo>
                    <a:lnTo>
                      <a:pt x="494" y="430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44"/>
                  </a:gs>
                  <a:gs pos="100000">
                    <a:srgbClr val="000066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-11160"/>
                <a:ext cx="2757600" cy="6872400"/>
              </a:xfrm>
              <a:custGeom>
                <a:avLst/>
                <a:gdLst/>
                <a:ahLst/>
                <a:rect l="l" t="t" r="r" b="b"/>
                <a:pathLst>
                  <a:path w="1737" h="4320">
                    <a:moveTo>
                      <a:pt x="494" y="4309"/>
                    </a:moveTo>
                    <a:lnTo>
                      <a:pt x="1737" y="4320"/>
                    </a:lnTo>
                    <a:lnTo>
                      <a:pt x="524" y="0"/>
                    </a:lnTo>
                    <a:lnTo>
                      <a:pt x="0" y="7"/>
                    </a:lnTo>
                    <a:lnTo>
                      <a:pt x="494" y="430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44"/>
                  </a:gs>
                  <a:gs pos="100000">
                    <a:srgbClr val="000066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943600" y="-6480"/>
                <a:ext cx="2760840" cy="6873840"/>
              </a:xfrm>
              <a:custGeom>
                <a:avLst/>
                <a:gdLst/>
                <a:ahLst/>
                <a:rect l="l" t="t" r="r" b="b"/>
                <a:pathLst>
                  <a:path w="1739" h="4420">
                    <a:moveTo>
                      <a:pt x="494" y="4415"/>
                    </a:moveTo>
                    <a:lnTo>
                      <a:pt x="1739" y="4420"/>
                    </a:lnTo>
                    <a:lnTo>
                      <a:pt x="524" y="0"/>
                    </a:lnTo>
                    <a:lnTo>
                      <a:pt x="0" y="7"/>
                    </a:lnTo>
                    <a:lnTo>
                      <a:pt x="494" y="44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44"/>
                  </a:gs>
                  <a:gs pos="100000">
                    <a:srgbClr val="000066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048120" y="-14400"/>
                <a:ext cx="3301920" cy="6864480"/>
              </a:xfrm>
              <a:custGeom>
                <a:avLst/>
                <a:gdLst/>
                <a:ahLst/>
                <a:rect l="l" t="t" r="r" b="b"/>
                <a:pathLst>
                  <a:path w="2080" h="4338">
                    <a:moveTo>
                      <a:pt x="0" y="7"/>
                    </a:moveTo>
                    <a:lnTo>
                      <a:pt x="1870" y="4338"/>
                    </a:lnTo>
                    <a:lnTo>
                      <a:pt x="2080" y="4338"/>
                    </a:lnTo>
                    <a:lnTo>
                      <a:pt x="1033" y="0"/>
                    </a:lnTo>
                    <a:lnTo>
                      <a:pt x="0" y="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44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76520" y="25560"/>
                <a:ext cx="1981080" cy="6846840"/>
              </a:xfrm>
              <a:custGeom>
                <a:avLst/>
                <a:gdLst/>
                <a:ahLst/>
                <a:rect l="l" t="t" r="r" b="b"/>
                <a:pathLst>
                  <a:path w="1248" h="4320">
                    <a:moveTo>
                      <a:pt x="528" y="4320"/>
                    </a:moveTo>
                    <a:lnTo>
                      <a:pt x="1248" y="4320"/>
                    </a:lnTo>
                    <a:lnTo>
                      <a:pt x="384" y="0"/>
                    </a:lnTo>
                    <a:lnTo>
                      <a:pt x="0" y="0"/>
                    </a:lnTo>
                    <a:lnTo>
                      <a:pt x="528" y="43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86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952880" y="0"/>
                <a:ext cx="1981440" cy="6865920"/>
              </a:xfrm>
              <a:custGeom>
                <a:avLst/>
                <a:gdLst/>
                <a:ahLst/>
                <a:rect l="l" t="t" r="r" b="b"/>
                <a:pathLst>
                  <a:path w="1248" h="4320">
                    <a:moveTo>
                      <a:pt x="528" y="4320"/>
                    </a:moveTo>
                    <a:lnTo>
                      <a:pt x="1248" y="4320"/>
                    </a:lnTo>
                    <a:lnTo>
                      <a:pt x="384" y="0"/>
                    </a:lnTo>
                    <a:lnTo>
                      <a:pt x="0" y="0"/>
                    </a:lnTo>
                    <a:lnTo>
                      <a:pt x="528" y="43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86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V="1">
                <a:off x="7162920" y="2880"/>
                <a:ext cx="1981080" cy="6858000"/>
              </a:xfrm>
              <a:custGeom>
                <a:avLst/>
                <a:gdLst/>
                <a:ahLst/>
                <a:rect l="l" t="t" r="r" b="b"/>
                <a:pathLst>
                  <a:path w="1248" h="4320">
                    <a:moveTo>
                      <a:pt x="528" y="4320"/>
                    </a:moveTo>
                    <a:lnTo>
                      <a:pt x="1248" y="4320"/>
                    </a:lnTo>
                    <a:lnTo>
                      <a:pt x="384" y="0"/>
                    </a:lnTo>
                    <a:lnTo>
                      <a:pt x="0" y="0"/>
                    </a:lnTo>
                    <a:lnTo>
                      <a:pt x="528" y="43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86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0" y="620712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7" name=""/>
            <p:cNvGrpSpPr/>
            <p:nvPr/>
          </p:nvGrpSpPr>
          <p:grpSpPr>
            <a:xfrm>
              <a:off x="0" y="6280200"/>
              <a:ext cx="9144000" cy="605880"/>
              <a:chOff x="0" y="6280200"/>
              <a:chExt cx="9144000" cy="605880"/>
            </a:xfrm>
          </p:grpSpPr>
          <p:sp>
            <p:nvSpPr>
              <p:cNvPr id="18" name=""/>
              <p:cNvSpPr/>
              <p:nvPr/>
            </p:nvSpPr>
            <p:spPr>
              <a:xfrm>
                <a:off x="2590920" y="6280200"/>
                <a:ext cx="2757240" cy="605880"/>
              </a:xfrm>
              <a:custGeom>
                <a:avLst/>
                <a:gdLst/>
                <a:ahLst/>
                <a:rect l="l" t="t" r="r" b="b"/>
                <a:pathLst>
                  <a:path w="1737" h="4320">
                    <a:moveTo>
                      <a:pt x="494" y="4309"/>
                    </a:moveTo>
                    <a:lnTo>
                      <a:pt x="1737" y="4320"/>
                    </a:lnTo>
                    <a:lnTo>
                      <a:pt x="524" y="0"/>
                    </a:lnTo>
                    <a:lnTo>
                      <a:pt x="0" y="7"/>
                    </a:lnTo>
                    <a:lnTo>
                      <a:pt x="494" y="430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44"/>
                  </a:gs>
                  <a:gs pos="100000">
                    <a:srgbClr val="000066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6280200"/>
                <a:ext cx="2757600" cy="605520"/>
              </a:xfrm>
              <a:custGeom>
                <a:avLst/>
                <a:gdLst/>
                <a:ahLst/>
                <a:rect l="l" t="t" r="r" b="b"/>
                <a:pathLst>
                  <a:path w="1737" h="4320">
                    <a:moveTo>
                      <a:pt x="494" y="4309"/>
                    </a:moveTo>
                    <a:lnTo>
                      <a:pt x="1737" y="4320"/>
                    </a:lnTo>
                    <a:lnTo>
                      <a:pt x="524" y="0"/>
                    </a:lnTo>
                    <a:lnTo>
                      <a:pt x="0" y="7"/>
                    </a:lnTo>
                    <a:lnTo>
                      <a:pt x="494" y="430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44"/>
                  </a:gs>
                  <a:gs pos="100000">
                    <a:srgbClr val="000066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5943600" y="6280560"/>
                <a:ext cx="2760840" cy="605520"/>
              </a:xfrm>
              <a:custGeom>
                <a:avLst/>
                <a:gdLst/>
                <a:ahLst/>
                <a:rect l="l" t="t" r="r" b="b"/>
                <a:pathLst>
                  <a:path w="1739" h="4420">
                    <a:moveTo>
                      <a:pt x="494" y="4415"/>
                    </a:moveTo>
                    <a:lnTo>
                      <a:pt x="1739" y="4420"/>
                    </a:lnTo>
                    <a:lnTo>
                      <a:pt x="524" y="0"/>
                    </a:lnTo>
                    <a:lnTo>
                      <a:pt x="0" y="7"/>
                    </a:lnTo>
                    <a:lnTo>
                      <a:pt x="494" y="44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44"/>
                  </a:gs>
                  <a:gs pos="100000">
                    <a:srgbClr val="000066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048120" y="6280560"/>
                <a:ext cx="3301920" cy="604800"/>
              </a:xfrm>
              <a:custGeom>
                <a:avLst/>
                <a:gdLst/>
                <a:ahLst/>
                <a:rect l="l" t="t" r="r" b="b"/>
                <a:pathLst>
                  <a:path w="2080" h="4338">
                    <a:moveTo>
                      <a:pt x="0" y="7"/>
                    </a:moveTo>
                    <a:lnTo>
                      <a:pt x="1870" y="4338"/>
                    </a:lnTo>
                    <a:lnTo>
                      <a:pt x="2080" y="4338"/>
                    </a:lnTo>
                    <a:lnTo>
                      <a:pt x="1033" y="0"/>
                    </a:lnTo>
                    <a:lnTo>
                      <a:pt x="0" y="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44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676520" y="6283080"/>
                <a:ext cx="1981080" cy="603000"/>
              </a:xfrm>
              <a:custGeom>
                <a:avLst/>
                <a:gdLst/>
                <a:ahLst/>
                <a:rect l="l" t="t" r="r" b="b"/>
                <a:pathLst>
                  <a:path w="1248" h="4320">
                    <a:moveTo>
                      <a:pt x="528" y="4320"/>
                    </a:moveTo>
                    <a:lnTo>
                      <a:pt x="1248" y="4320"/>
                    </a:lnTo>
                    <a:lnTo>
                      <a:pt x="384" y="0"/>
                    </a:lnTo>
                    <a:lnTo>
                      <a:pt x="0" y="0"/>
                    </a:lnTo>
                    <a:lnTo>
                      <a:pt x="528" y="43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86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952880" y="6280920"/>
                <a:ext cx="1981440" cy="604800"/>
              </a:xfrm>
              <a:custGeom>
                <a:avLst/>
                <a:gdLst/>
                <a:ahLst/>
                <a:rect l="l" t="t" r="r" b="b"/>
                <a:pathLst>
                  <a:path w="1248" h="4320">
                    <a:moveTo>
                      <a:pt x="528" y="4320"/>
                    </a:moveTo>
                    <a:lnTo>
                      <a:pt x="1248" y="4320"/>
                    </a:lnTo>
                    <a:lnTo>
                      <a:pt x="384" y="0"/>
                    </a:lnTo>
                    <a:lnTo>
                      <a:pt x="0" y="0"/>
                    </a:lnTo>
                    <a:lnTo>
                      <a:pt x="528" y="43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86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flipV="1">
                <a:off x="7162920" y="6281280"/>
                <a:ext cx="1981080" cy="604080"/>
              </a:xfrm>
              <a:custGeom>
                <a:avLst/>
                <a:gdLst/>
                <a:ahLst/>
                <a:rect l="l" t="t" r="r" b="b"/>
                <a:pathLst>
                  <a:path w="1248" h="4320">
                    <a:moveTo>
                      <a:pt x="528" y="4320"/>
                    </a:moveTo>
                    <a:lnTo>
                      <a:pt x="1248" y="4320"/>
                    </a:lnTo>
                    <a:lnTo>
                      <a:pt x="384" y="0"/>
                    </a:lnTo>
                    <a:lnTo>
                      <a:pt x="0" y="0"/>
                    </a:lnTo>
                    <a:lnTo>
                      <a:pt x="528" y="43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86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5" name=""/>
            <p:cNvSpPr/>
            <p:nvPr/>
          </p:nvSpPr>
          <p:spPr>
            <a:xfrm>
              <a:off x="0" y="620712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4100400" y="621972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flipH="1" rot="18897000">
              <a:off x="2358720" y="616896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H="1" rot="18897000">
              <a:off x="1215720" y="616896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H="1" rot="18897000">
              <a:off x="47160" y="611892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H="1" flipV="1">
              <a:off x="913680" y="620640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H="1" flipV="1">
              <a:off x="380520" y="620640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H="1" flipV="1">
              <a:off x="4819680" y="628272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 flipH="1" flipV="1">
              <a:off x="6324480" y="620640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 flipH="1" flipV="1">
              <a:off x="5486400" y="620640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624060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 type="dt" idx="1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 type="sldNum" idx="3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236ED-86EF-41D1-A854-8BF483A8B73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-1542240" y="-25560"/>
            <a:ext cx="10686240" cy="6897960"/>
            <a:chOff x="-1542240" y="-25560"/>
            <a:chExt cx="10686240" cy="6897960"/>
          </a:xfrm>
        </p:grpSpPr>
        <p:grpSp>
          <p:nvGrpSpPr>
            <p:cNvPr id="78" name=""/>
            <p:cNvGrpSpPr/>
            <p:nvPr/>
          </p:nvGrpSpPr>
          <p:grpSpPr>
            <a:xfrm>
              <a:off x="0" y="-14400"/>
              <a:ext cx="9144000" cy="6886800"/>
              <a:chOff x="0" y="-14400"/>
              <a:chExt cx="9144000" cy="6886800"/>
            </a:xfrm>
          </p:grpSpPr>
          <p:sp>
            <p:nvSpPr>
              <p:cNvPr id="79" name=""/>
              <p:cNvSpPr/>
              <p:nvPr/>
            </p:nvSpPr>
            <p:spPr>
              <a:xfrm>
                <a:off x="2590920" y="-7920"/>
                <a:ext cx="2757240" cy="6878520"/>
              </a:xfrm>
              <a:custGeom>
                <a:avLst/>
                <a:gdLst/>
                <a:ahLst/>
                <a:rect l="l" t="t" r="r" b="b"/>
                <a:pathLst>
                  <a:path w="1737" h="4320">
                    <a:moveTo>
                      <a:pt x="494" y="4309"/>
                    </a:moveTo>
                    <a:lnTo>
                      <a:pt x="1737" y="4320"/>
                    </a:lnTo>
                    <a:lnTo>
                      <a:pt x="524" y="0"/>
                    </a:lnTo>
                    <a:lnTo>
                      <a:pt x="0" y="7"/>
                    </a:lnTo>
                    <a:lnTo>
                      <a:pt x="494" y="430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44"/>
                  </a:gs>
                  <a:gs pos="100000">
                    <a:srgbClr val="000066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0" y="-11160"/>
                <a:ext cx="2757600" cy="6872400"/>
              </a:xfrm>
              <a:custGeom>
                <a:avLst/>
                <a:gdLst/>
                <a:ahLst/>
                <a:rect l="l" t="t" r="r" b="b"/>
                <a:pathLst>
                  <a:path w="1737" h="4320">
                    <a:moveTo>
                      <a:pt x="494" y="4309"/>
                    </a:moveTo>
                    <a:lnTo>
                      <a:pt x="1737" y="4320"/>
                    </a:lnTo>
                    <a:lnTo>
                      <a:pt x="524" y="0"/>
                    </a:lnTo>
                    <a:lnTo>
                      <a:pt x="0" y="7"/>
                    </a:lnTo>
                    <a:lnTo>
                      <a:pt x="494" y="430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44"/>
                  </a:gs>
                  <a:gs pos="100000">
                    <a:srgbClr val="000066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5943600" y="-6480"/>
                <a:ext cx="2760840" cy="6873840"/>
              </a:xfrm>
              <a:custGeom>
                <a:avLst/>
                <a:gdLst/>
                <a:ahLst/>
                <a:rect l="l" t="t" r="r" b="b"/>
                <a:pathLst>
                  <a:path w="1739" h="4420">
                    <a:moveTo>
                      <a:pt x="494" y="4415"/>
                    </a:moveTo>
                    <a:lnTo>
                      <a:pt x="1739" y="4420"/>
                    </a:lnTo>
                    <a:lnTo>
                      <a:pt x="524" y="0"/>
                    </a:lnTo>
                    <a:lnTo>
                      <a:pt x="0" y="7"/>
                    </a:lnTo>
                    <a:lnTo>
                      <a:pt x="494" y="44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44"/>
                  </a:gs>
                  <a:gs pos="100000">
                    <a:srgbClr val="000066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3048120" y="-14400"/>
                <a:ext cx="3301920" cy="6864480"/>
              </a:xfrm>
              <a:custGeom>
                <a:avLst/>
                <a:gdLst/>
                <a:ahLst/>
                <a:rect l="l" t="t" r="r" b="b"/>
                <a:pathLst>
                  <a:path w="2080" h="4338">
                    <a:moveTo>
                      <a:pt x="0" y="7"/>
                    </a:moveTo>
                    <a:lnTo>
                      <a:pt x="1870" y="4338"/>
                    </a:lnTo>
                    <a:lnTo>
                      <a:pt x="2080" y="4338"/>
                    </a:lnTo>
                    <a:lnTo>
                      <a:pt x="1033" y="0"/>
                    </a:lnTo>
                    <a:lnTo>
                      <a:pt x="0" y="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44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1676520" y="25560"/>
                <a:ext cx="1981080" cy="6846840"/>
              </a:xfrm>
              <a:custGeom>
                <a:avLst/>
                <a:gdLst/>
                <a:ahLst/>
                <a:rect l="l" t="t" r="r" b="b"/>
                <a:pathLst>
                  <a:path w="1248" h="4320">
                    <a:moveTo>
                      <a:pt x="528" y="4320"/>
                    </a:moveTo>
                    <a:lnTo>
                      <a:pt x="1248" y="4320"/>
                    </a:lnTo>
                    <a:lnTo>
                      <a:pt x="384" y="0"/>
                    </a:lnTo>
                    <a:lnTo>
                      <a:pt x="0" y="0"/>
                    </a:lnTo>
                    <a:lnTo>
                      <a:pt x="528" y="43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86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52880" y="0"/>
                <a:ext cx="1981440" cy="6865920"/>
              </a:xfrm>
              <a:custGeom>
                <a:avLst/>
                <a:gdLst/>
                <a:ahLst/>
                <a:rect l="l" t="t" r="r" b="b"/>
                <a:pathLst>
                  <a:path w="1248" h="4320">
                    <a:moveTo>
                      <a:pt x="528" y="4320"/>
                    </a:moveTo>
                    <a:lnTo>
                      <a:pt x="1248" y="4320"/>
                    </a:lnTo>
                    <a:lnTo>
                      <a:pt x="384" y="0"/>
                    </a:lnTo>
                    <a:lnTo>
                      <a:pt x="0" y="0"/>
                    </a:lnTo>
                    <a:lnTo>
                      <a:pt x="528" y="43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86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V="1">
                <a:off x="7162920" y="2880"/>
                <a:ext cx="1981080" cy="6858000"/>
              </a:xfrm>
              <a:custGeom>
                <a:avLst/>
                <a:gdLst/>
                <a:ahLst/>
                <a:rect l="l" t="t" r="r" b="b"/>
                <a:pathLst>
                  <a:path w="1248" h="4320">
                    <a:moveTo>
                      <a:pt x="528" y="4320"/>
                    </a:moveTo>
                    <a:lnTo>
                      <a:pt x="1248" y="4320"/>
                    </a:lnTo>
                    <a:lnTo>
                      <a:pt x="384" y="0"/>
                    </a:lnTo>
                    <a:lnTo>
                      <a:pt x="0" y="0"/>
                    </a:lnTo>
                    <a:lnTo>
                      <a:pt x="528" y="43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86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6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0" y="3319560"/>
              <a:ext cx="9144000" cy="1762920"/>
              <a:chOff x="0" y="3319560"/>
              <a:chExt cx="9144000" cy="1762920"/>
            </a:xfrm>
          </p:grpSpPr>
          <p:sp>
            <p:nvSpPr>
              <p:cNvPr id="94" name=""/>
              <p:cNvSpPr/>
              <p:nvPr/>
            </p:nvSpPr>
            <p:spPr>
              <a:xfrm>
                <a:off x="0" y="3875040"/>
                <a:ext cx="9144000" cy="685800"/>
              </a:xfrm>
              <a:prstGeom prst="rect">
                <a:avLst/>
              </a:prstGeom>
              <a:gradFill rotWithShape="0">
                <a:gsLst>
                  <a:gs pos="0">
                    <a:srgbClr val="000044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95" name=""/>
              <p:cNvGrpSpPr/>
              <p:nvPr/>
            </p:nvGrpSpPr>
            <p:grpSpPr>
              <a:xfrm>
                <a:off x="0" y="3948120"/>
                <a:ext cx="9144000" cy="605880"/>
                <a:chOff x="0" y="3948120"/>
                <a:chExt cx="9144000" cy="605880"/>
              </a:xfrm>
            </p:grpSpPr>
            <p:sp>
              <p:nvSpPr>
                <p:cNvPr id="96" name=""/>
                <p:cNvSpPr/>
                <p:nvPr/>
              </p:nvSpPr>
              <p:spPr>
                <a:xfrm>
                  <a:off x="2590920" y="3948120"/>
                  <a:ext cx="2757240" cy="605880"/>
                </a:xfrm>
                <a:custGeom>
                  <a:avLst/>
                  <a:gdLst/>
                  <a:ahLst/>
                  <a:rect l="l" t="t" r="r" b="b"/>
                  <a:pathLst>
                    <a:path w="1737" h="4320">
                      <a:moveTo>
                        <a:pt x="494" y="4309"/>
                      </a:moveTo>
                      <a:lnTo>
                        <a:pt x="1737" y="4320"/>
                      </a:lnTo>
                      <a:lnTo>
                        <a:pt x="524" y="0"/>
                      </a:lnTo>
                      <a:lnTo>
                        <a:pt x="0" y="7"/>
                      </a:lnTo>
                      <a:lnTo>
                        <a:pt x="494" y="4309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44"/>
                    </a:gs>
                    <a:gs pos="100000">
                      <a:srgbClr val="000066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>
                  <a:off x="0" y="3948120"/>
                  <a:ext cx="2757600" cy="605520"/>
                </a:xfrm>
                <a:custGeom>
                  <a:avLst/>
                  <a:gdLst/>
                  <a:ahLst/>
                  <a:rect l="l" t="t" r="r" b="b"/>
                  <a:pathLst>
                    <a:path w="1737" h="4320">
                      <a:moveTo>
                        <a:pt x="494" y="4309"/>
                      </a:moveTo>
                      <a:lnTo>
                        <a:pt x="1737" y="4320"/>
                      </a:lnTo>
                      <a:lnTo>
                        <a:pt x="524" y="0"/>
                      </a:lnTo>
                      <a:lnTo>
                        <a:pt x="0" y="7"/>
                      </a:lnTo>
                      <a:lnTo>
                        <a:pt x="494" y="4309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44"/>
                    </a:gs>
                    <a:gs pos="100000">
                      <a:srgbClr val="000066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>
                  <a:off x="5943600" y="3948480"/>
                  <a:ext cx="2760840" cy="605520"/>
                </a:xfrm>
                <a:custGeom>
                  <a:avLst/>
                  <a:gdLst/>
                  <a:ahLst/>
                  <a:rect l="l" t="t" r="r" b="b"/>
                  <a:pathLst>
                    <a:path w="1739" h="4420">
                      <a:moveTo>
                        <a:pt x="494" y="4415"/>
                      </a:moveTo>
                      <a:lnTo>
                        <a:pt x="1739" y="4420"/>
                      </a:lnTo>
                      <a:lnTo>
                        <a:pt x="524" y="0"/>
                      </a:lnTo>
                      <a:lnTo>
                        <a:pt x="0" y="7"/>
                      </a:lnTo>
                      <a:lnTo>
                        <a:pt x="494" y="441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44"/>
                    </a:gs>
                    <a:gs pos="100000">
                      <a:srgbClr val="000066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9" name=""/>
                <p:cNvSpPr/>
                <p:nvPr/>
              </p:nvSpPr>
              <p:spPr>
                <a:xfrm>
                  <a:off x="3048120" y="3948480"/>
                  <a:ext cx="3301920" cy="604800"/>
                </a:xfrm>
                <a:custGeom>
                  <a:avLst/>
                  <a:gdLst/>
                  <a:ahLst/>
                  <a:rect l="l" t="t" r="r" b="b"/>
                  <a:pathLst>
                    <a:path w="2080" h="4338">
                      <a:moveTo>
                        <a:pt x="0" y="7"/>
                      </a:moveTo>
                      <a:lnTo>
                        <a:pt x="1870" y="4338"/>
                      </a:lnTo>
                      <a:lnTo>
                        <a:pt x="2080" y="4338"/>
                      </a:lnTo>
                      <a:lnTo>
                        <a:pt x="1033" y="0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44"/>
                    </a:gs>
                    <a:gs pos="100000">
                      <a:srgbClr val="00006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676520" y="3951000"/>
                  <a:ext cx="1981080" cy="603000"/>
                </a:xfrm>
                <a:custGeom>
                  <a:avLst/>
                  <a:gdLst/>
                  <a:ahLst/>
                  <a:rect l="l" t="t" r="r" b="b"/>
                  <a:pathLst>
                    <a:path w="1248" h="4320">
                      <a:moveTo>
                        <a:pt x="528" y="4320"/>
                      </a:moveTo>
                      <a:lnTo>
                        <a:pt x="1248" y="4320"/>
                      </a:lnTo>
                      <a:lnTo>
                        <a:pt x="384" y="0"/>
                      </a:lnTo>
                      <a:lnTo>
                        <a:pt x="0" y="0"/>
                      </a:lnTo>
                      <a:lnTo>
                        <a:pt x="528" y="432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86"/>
                    </a:gs>
                    <a:gs pos="100000">
                      <a:srgbClr val="000066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>
                  <a:off x="4952880" y="3948840"/>
                  <a:ext cx="1981440" cy="604800"/>
                </a:xfrm>
                <a:custGeom>
                  <a:avLst/>
                  <a:gdLst/>
                  <a:ahLst/>
                  <a:rect l="l" t="t" r="r" b="b"/>
                  <a:pathLst>
                    <a:path w="1248" h="4320">
                      <a:moveTo>
                        <a:pt x="528" y="4320"/>
                      </a:moveTo>
                      <a:lnTo>
                        <a:pt x="1248" y="4320"/>
                      </a:lnTo>
                      <a:lnTo>
                        <a:pt x="384" y="0"/>
                      </a:lnTo>
                      <a:lnTo>
                        <a:pt x="0" y="0"/>
                      </a:lnTo>
                      <a:lnTo>
                        <a:pt x="528" y="432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86"/>
                    </a:gs>
                    <a:gs pos="100000">
                      <a:srgbClr val="000066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 flipV="1">
                  <a:off x="7162920" y="3949200"/>
                  <a:ext cx="1981080" cy="604080"/>
                </a:xfrm>
                <a:custGeom>
                  <a:avLst/>
                  <a:gdLst/>
                  <a:ahLst/>
                  <a:rect l="l" t="t" r="r" b="b"/>
                  <a:pathLst>
                    <a:path w="1248" h="4320">
                      <a:moveTo>
                        <a:pt x="528" y="4320"/>
                      </a:moveTo>
                      <a:lnTo>
                        <a:pt x="1248" y="4320"/>
                      </a:lnTo>
                      <a:lnTo>
                        <a:pt x="384" y="0"/>
                      </a:lnTo>
                      <a:lnTo>
                        <a:pt x="0" y="0"/>
                      </a:lnTo>
                      <a:lnTo>
                        <a:pt x="528" y="432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86"/>
                    </a:gs>
                    <a:gs pos="100000">
                      <a:srgbClr val="000066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3" name=""/>
              <p:cNvSpPr/>
              <p:nvPr/>
            </p:nvSpPr>
            <p:spPr>
              <a:xfrm>
                <a:off x="0" y="3875040"/>
                <a:ext cx="9144000" cy="685800"/>
              </a:xfrm>
              <a:prstGeom prst="rect">
                <a:avLst/>
              </a:prstGeom>
              <a:solidFill>
                <a:srgbClr val="00004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4100400" y="3887640"/>
                <a:ext cx="1644840" cy="666720"/>
              </a:xfrm>
              <a:custGeom>
                <a:avLst/>
                <a:gdLst/>
                <a:ahLst/>
                <a:rect l="l" t="t" r="r" b="b"/>
                <a:pathLst>
                  <a:path w="1036" h="420">
                    <a:moveTo>
                      <a:pt x="1027" y="0"/>
                    </a:moveTo>
                    <a:cubicBezTo>
                      <a:pt x="508" y="159"/>
                      <a:pt x="167" y="347"/>
                      <a:pt x="0" y="417"/>
                    </a:cubicBezTo>
                    <a:cubicBezTo>
                      <a:pt x="0" y="417"/>
                      <a:pt x="12" y="418"/>
                      <a:pt x="24" y="420"/>
                    </a:cubicBezTo>
                    <a:cubicBezTo>
                      <a:pt x="237" y="321"/>
                      <a:pt x="708" y="105"/>
                      <a:pt x="1036" y="16"/>
                    </a:cubicBezTo>
                    <a:cubicBezTo>
                      <a:pt x="1036" y="16"/>
                      <a:pt x="1027" y="0"/>
                      <a:pt x="1027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50000">
                    <a:srgbClr val="2663a0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flipH="1" rot="18897000">
                <a:off x="2358720" y="3836880"/>
                <a:ext cx="1683000" cy="761760"/>
              </a:xfrm>
              <a:custGeom>
                <a:avLst/>
                <a:gdLst/>
                <a:ahLst/>
                <a:rect l="l" t="t" r="r" b="b"/>
                <a:pathLst>
                  <a:path w="4763" h="1845">
                    <a:moveTo>
                      <a:pt x="0" y="1778"/>
                    </a:moveTo>
                    <a:cubicBezTo>
                      <a:pt x="2065" y="797"/>
                      <a:pt x="3942" y="281"/>
                      <a:pt x="4742" y="0"/>
                    </a:cubicBezTo>
                    <a:lnTo>
                      <a:pt x="4763" y="42"/>
                    </a:lnTo>
                    <a:cubicBezTo>
                      <a:pt x="3976" y="350"/>
                      <a:pt x="1830" y="918"/>
                      <a:pt x="20" y="1845"/>
                    </a:cubicBezTo>
                    <a:cubicBezTo>
                      <a:pt x="20" y="1845"/>
                      <a:pt x="0" y="1778"/>
                      <a:pt x="0" y="177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50000">
                    <a:srgbClr val="2663a0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flipH="1" rot="18897000">
                <a:off x="1215720" y="3836880"/>
                <a:ext cx="1683000" cy="761760"/>
              </a:xfrm>
              <a:custGeom>
                <a:avLst/>
                <a:gdLst/>
                <a:ahLst/>
                <a:rect l="l" t="t" r="r" b="b"/>
                <a:pathLst>
                  <a:path w="4763" h="1845">
                    <a:moveTo>
                      <a:pt x="0" y="1778"/>
                    </a:moveTo>
                    <a:cubicBezTo>
                      <a:pt x="2065" y="797"/>
                      <a:pt x="3942" y="281"/>
                      <a:pt x="4742" y="0"/>
                    </a:cubicBezTo>
                    <a:lnTo>
                      <a:pt x="4763" y="42"/>
                    </a:lnTo>
                    <a:cubicBezTo>
                      <a:pt x="3976" y="350"/>
                      <a:pt x="1830" y="918"/>
                      <a:pt x="20" y="1845"/>
                    </a:cubicBezTo>
                    <a:cubicBezTo>
                      <a:pt x="20" y="1845"/>
                      <a:pt x="0" y="1778"/>
                      <a:pt x="0" y="177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50000">
                    <a:srgbClr val="2663a0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flipH="1" rot="18897000">
                <a:off x="47160" y="3786840"/>
                <a:ext cx="1641600" cy="772920"/>
              </a:xfrm>
              <a:custGeom>
                <a:avLst/>
                <a:gdLst/>
                <a:ahLst/>
                <a:rect l="l" t="t" r="r" b="b"/>
                <a:pathLst>
                  <a:path w="4763" h="1845">
                    <a:moveTo>
                      <a:pt x="0" y="1778"/>
                    </a:moveTo>
                    <a:cubicBezTo>
                      <a:pt x="2065" y="797"/>
                      <a:pt x="3942" y="281"/>
                      <a:pt x="4742" y="0"/>
                    </a:cubicBezTo>
                    <a:lnTo>
                      <a:pt x="4763" y="42"/>
                    </a:lnTo>
                    <a:cubicBezTo>
                      <a:pt x="3976" y="350"/>
                      <a:pt x="1830" y="918"/>
                      <a:pt x="20" y="1845"/>
                    </a:cubicBezTo>
                    <a:cubicBezTo>
                      <a:pt x="20" y="1845"/>
                      <a:pt x="0" y="1778"/>
                      <a:pt x="0" y="177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50000">
                    <a:srgbClr val="2663a0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flipV="1">
                <a:off x="913680" y="3874320"/>
                <a:ext cx="5638680" cy="685800"/>
              </a:xfrm>
              <a:custGeom>
                <a:avLst/>
                <a:gdLst/>
                <a:ahLst/>
                <a:rect l="l" t="t" r="r" b="b"/>
                <a:pathLst>
                  <a:path w="4763" h="1845">
                    <a:moveTo>
                      <a:pt x="0" y="1778"/>
                    </a:moveTo>
                    <a:cubicBezTo>
                      <a:pt x="2065" y="797"/>
                      <a:pt x="3942" y="281"/>
                      <a:pt x="4742" y="0"/>
                    </a:cubicBezTo>
                    <a:lnTo>
                      <a:pt x="4763" y="42"/>
                    </a:lnTo>
                    <a:cubicBezTo>
                      <a:pt x="3976" y="350"/>
                      <a:pt x="1830" y="918"/>
                      <a:pt x="20" y="1845"/>
                    </a:cubicBezTo>
                    <a:cubicBezTo>
                      <a:pt x="20" y="1845"/>
                      <a:pt x="0" y="1778"/>
                      <a:pt x="0" y="177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50000">
                    <a:srgbClr val="2663a0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flipH="1" flipV="1">
                <a:off x="380520" y="3874320"/>
                <a:ext cx="2438640" cy="685800"/>
              </a:xfrm>
              <a:custGeom>
                <a:avLst/>
                <a:gdLst/>
                <a:ahLst/>
                <a:rect l="l" t="t" r="r" b="b"/>
                <a:pathLst>
                  <a:path w="4763" h="1845">
                    <a:moveTo>
                      <a:pt x="0" y="1778"/>
                    </a:moveTo>
                    <a:cubicBezTo>
                      <a:pt x="2065" y="797"/>
                      <a:pt x="3942" y="281"/>
                      <a:pt x="4742" y="0"/>
                    </a:cubicBezTo>
                    <a:lnTo>
                      <a:pt x="4763" y="42"/>
                    </a:lnTo>
                    <a:cubicBezTo>
                      <a:pt x="3976" y="350"/>
                      <a:pt x="1830" y="918"/>
                      <a:pt x="20" y="1845"/>
                    </a:cubicBezTo>
                    <a:cubicBezTo>
                      <a:pt x="20" y="1845"/>
                      <a:pt x="0" y="1778"/>
                      <a:pt x="0" y="177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50000">
                    <a:srgbClr val="2663a0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flipH="1" flipV="1">
                <a:off x="4819680" y="3950640"/>
                <a:ext cx="2114640" cy="608040"/>
              </a:xfrm>
              <a:custGeom>
                <a:avLst/>
                <a:gdLst/>
                <a:ahLst/>
                <a:rect l="l" t="t" r="r" b="b"/>
                <a:pathLst>
                  <a:path w="4763" h="1845">
                    <a:moveTo>
                      <a:pt x="0" y="1778"/>
                    </a:moveTo>
                    <a:cubicBezTo>
                      <a:pt x="2065" y="797"/>
                      <a:pt x="3942" y="281"/>
                      <a:pt x="4742" y="0"/>
                    </a:cubicBezTo>
                    <a:lnTo>
                      <a:pt x="4763" y="42"/>
                    </a:lnTo>
                    <a:cubicBezTo>
                      <a:pt x="3976" y="350"/>
                      <a:pt x="1830" y="918"/>
                      <a:pt x="20" y="1845"/>
                    </a:cubicBezTo>
                    <a:cubicBezTo>
                      <a:pt x="20" y="1845"/>
                      <a:pt x="0" y="1778"/>
                      <a:pt x="0" y="177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50000">
                    <a:srgbClr val="2663a0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flipV="1">
                <a:off x="6324480" y="3874320"/>
                <a:ext cx="2438640" cy="685800"/>
              </a:xfrm>
              <a:custGeom>
                <a:avLst/>
                <a:gdLst/>
                <a:ahLst/>
                <a:rect l="l" t="t" r="r" b="b"/>
                <a:pathLst>
                  <a:path w="4763" h="1845">
                    <a:moveTo>
                      <a:pt x="0" y="1778"/>
                    </a:moveTo>
                    <a:cubicBezTo>
                      <a:pt x="2065" y="797"/>
                      <a:pt x="3942" y="281"/>
                      <a:pt x="4742" y="0"/>
                    </a:cubicBezTo>
                    <a:lnTo>
                      <a:pt x="4763" y="42"/>
                    </a:lnTo>
                    <a:cubicBezTo>
                      <a:pt x="3976" y="350"/>
                      <a:pt x="1830" y="918"/>
                      <a:pt x="20" y="1845"/>
                    </a:cubicBezTo>
                    <a:cubicBezTo>
                      <a:pt x="20" y="1845"/>
                      <a:pt x="0" y="1778"/>
                      <a:pt x="0" y="177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50000">
                    <a:srgbClr val="2663a0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H="1" flipV="1">
                <a:off x="5486400" y="3874320"/>
                <a:ext cx="3657600" cy="685800"/>
              </a:xfrm>
              <a:custGeom>
                <a:avLst/>
                <a:gdLst/>
                <a:ahLst/>
                <a:rect l="l" t="t" r="r" b="b"/>
                <a:pathLst>
                  <a:path w="4763" h="1845">
                    <a:moveTo>
                      <a:pt x="0" y="1778"/>
                    </a:moveTo>
                    <a:cubicBezTo>
                      <a:pt x="2065" y="797"/>
                      <a:pt x="3942" y="281"/>
                      <a:pt x="4742" y="0"/>
                    </a:cubicBezTo>
                    <a:lnTo>
                      <a:pt x="4763" y="42"/>
                    </a:lnTo>
                    <a:cubicBezTo>
                      <a:pt x="3976" y="350"/>
                      <a:pt x="1830" y="918"/>
                      <a:pt x="20" y="1845"/>
                    </a:cubicBezTo>
                    <a:cubicBezTo>
                      <a:pt x="20" y="1845"/>
                      <a:pt x="0" y="1778"/>
                      <a:pt x="0" y="177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50000">
                    <a:srgbClr val="2663a0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3908520"/>
                <a:ext cx="9144000" cy="21960"/>
              </a:xfrm>
              <a:prstGeom prst="rect">
                <a:avLst/>
              </a:prstGeom>
              <a:gradFill rotWithShape="0">
                <a:gsLst>
                  <a:gs pos="0">
                    <a:srgbClr val="000044"/>
                  </a:gs>
                  <a:gs pos="50000">
                    <a:srgbClr val="9ce157"/>
                  </a:gs>
                  <a:gs pos="100000">
                    <a:srgbClr val="00004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840" bIns="-248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4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16" name="" descr=""/>
            <p:cNvPicPr/>
            <p:nvPr/>
          </p:nvPicPr>
          <p:blipFill>
            <a:blip r:embed="rId2"/>
            <a:stretch/>
          </p:blipFill>
          <p:spPr>
            <a:xfrm>
              <a:off x="1219320" y="2590920"/>
              <a:ext cx="380880" cy="380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dt" idx="4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ftr" idx="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sldNum" idx="6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954D9-3BB0-4AC3-8618-A11FFB22888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3526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Black"/>
              </a:rPr>
              <a:t>HOW BAD IS IT?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914400" y="914400"/>
            <a:ext cx="7315200" cy="208440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457200" y="457200"/>
            <a:ext cx="8153280" cy="5334120"/>
          </a:xfrm>
          <a:prstGeom prst="rect">
            <a:avLst/>
          </a:prstGeom>
          <a:ln w="25560">
            <a:solidFill>
              <a:srgbClr val="ffffff"/>
            </a:solidFill>
            <a:miter/>
          </a:ln>
        </p:spPr>
      </p:pic>
    </p:spTree>
  </p:cSld>
  <p:transition spd="slow">
    <p:fade thruBlk="true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533520" y="457200"/>
            <a:ext cx="8153280" cy="5334120"/>
          </a:xfrm>
          <a:prstGeom prst="rect">
            <a:avLst/>
          </a:prstGeom>
          <a:ln w="25560">
            <a:solidFill>
              <a:srgbClr val="ffffff"/>
            </a:solidFill>
            <a:miter/>
          </a:ln>
        </p:spPr>
      </p:pic>
    </p:spTree>
  </p:cSld>
  <p:transition spd="slow">
    <p:fade thruBlk="true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533520" y="533520"/>
            <a:ext cx="8153280" cy="5181480"/>
          </a:xfrm>
          <a:prstGeom prst="rect">
            <a:avLst/>
          </a:prstGeom>
          <a:ln w="25560">
            <a:solidFill>
              <a:srgbClr val="ffffff"/>
            </a:solidFill>
            <a:miter/>
          </a:ln>
        </p:spPr>
      </p:pic>
    </p:spTree>
  </p:cSld>
  <p:transition spd="slow">
    <p:fade thruBlk="true"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380880" y="685800"/>
            <a:ext cx="8382240" cy="53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Max Gardner’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Bankruptcy Boot Camp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O Box 17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asar NC 2802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04.418.2628 (Max Direc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ww.maxbankruptcybootcamp.c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ww.maxgardnerlaw.c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xgardner@maxgardner.c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457200" y="533520"/>
            <a:ext cx="8153280" cy="5263920"/>
          </a:xfrm>
          <a:prstGeom prst="rect">
            <a:avLst/>
          </a:prstGeom>
          <a:ln w="25560">
            <a:solidFill>
              <a:srgbClr val="ffffff"/>
            </a:solidFill>
            <a:miter/>
          </a:ln>
        </p:spPr>
      </p:pic>
    </p:spTree>
  </p:cSld>
  <p:transition spd="slow">
    <p:fade thruBlk="true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457200" y="533520"/>
            <a:ext cx="8153280" cy="5306760"/>
          </a:xfrm>
          <a:prstGeom prst="rect">
            <a:avLst/>
          </a:prstGeom>
          <a:ln w="25560">
            <a:solidFill>
              <a:srgbClr val="ffffff"/>
            </a:solidFill>
            <a:miter/>
          </a:ln>
        </p:spPr>
      </p:pic>
    </p:spTree>
  </p:cSld>
  <p:transition spd="slow">
    <p:fade thruBlk="true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7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8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9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0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457200" y="533520"/>
            <a:ext cx="8229600" cy="5257800"/>
          </a:xfrm>
          <a:prstGeom prst="rect">
            <a:avLst/>
          </a:prstGeom>
          <a:ln w="25560">
            <a:solidFill>
              <a:srgbClr val="ffffff"/>
            </a:solidFill>
            <a:miter/>
          </a:ln>
        </p:spPr>
      </p:pic>
    </p:spTree>
  </p:cSld>
  <p:transition spd="slow">
    <p:fade thruBlk="true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457200" y="533520"/>
            <a:ext cx="8229600" cy="5238720"/>
          </a:xfrm>
          <a:prstGeom prst="rect">
            <a:avLst/>
          </a:prstGeom>
          <a:ln w="25560">
            <a:solidFill>
              <a:srgbClr val="ffffff"/>
            </a:solidFill>
            <a:miter/>
          </a:ln>
        </p:spPr>
      </p:pic>
    </p:spTree>
  </p:cSld>
  <p:transition spd="slow">
    <p:fade thruBlk="true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457200" y="533520"/>
            <a:ext cx="8229600" cy="5276880"/>
          </a:xfrm>
          <a:prstGeom prst="rect">
            <a:avLst/>
          </a:prstGeom>
          <a:ln w="25560">
            <a:solidFill>
              <a:srgbClr val="ffffff"/>
            </a:solidFill>
            <a:miter/>
          </a:ln>
        </p:spPr>
      </p:pic>
    </p:spTree>
  </p:cSld>
  <p:transition spd="slow">
    <p:fade thruBlk="true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1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2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4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6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8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457200" y="533520"/>
            <a:ext cx="8229600" cy="5257800"/>
          </a:xfrm>
          <a:prstGeom prst="rect">
            <a:avLst/>
          </a:prstGeom>
          <a:ln w="25560">
            <a:solidFill>
              <a:srgbClr val="ffffff"/>
            </a:solidFill>
            <a:miter/>
          </a:ln>
        </p:spPr>
      </p:pic>
    </p:spTree>
  </p:cSld>
  <p:transition spd="slow">
    <p:fade thruBlk="true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457200" y="533520"/>
            <a:ext cx="8229600" cy="5257800"/>
          </a:xfrm>
          <a:prstGeom prst="rect">
            <a:avLst/>
          </a:prstGeom>
          <a:ln w="25560">
            <a:solidFill>
              <a:srgbClr val="ffffff"/>
            </a:solidFill>
            <a:miter/>
          </a:ln>
        </p:spPr>
      </p:pic>
    </p:spTree>
  </p:cSld>
  <p:transition spd="slow">
    <p:fade thruBlk="true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385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5" dur="385" fill="hold"/>
                                        <p:tgtEl>
                                          <p:spTgt spid="16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7" dur="385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9" dur="385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457200" y="533520"/>
            <a:ext cx="8229600" cy="5257800"/>
          </a:xfrm>
          <a:prstGeom prst="rect">
            <a:avLst/>
          </a:prstGeom>
          <a:ln w="25560">
            <a:solidFill>
              <a:srgbClr val="ffffff"/>
            </a:solidFill>
            <a:miter/>
          </a:ln>
        </p:spPr>
      </p:pic>
    </p:spTree>
  </p:cSld>
  <p:transition spd="slow">
    <p:fade thruBlk="true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17T17:09:39Z</dcterms:created>
  <dc:creator> </dc:creator>
  <dc:description/>
  <dc:language>en-US</dc:language>
  <cp:lastModifiedBy> </cp:lastModifiedBy>
  <dcterms:modified xsi:type="dcterms:W3CDTF">2010-07-17T17:43:06Z</dcterms:modified>
  <cp:revision>3</cp:revision>
  <dc:subject/>
  <dc:title>Slide 1</dc:title>
</cp:coreProperties>
</file>